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ct" ContentType="image/x-pict"/>
  <Override PartName="/ppt/media/image5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9B5C-F47E-4CC0-9D15-1F9404EA39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75BB-BB4D-4DEE-86AF-8A1F6763BA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2E8A-AAED-4986-A254-2D2BF6EAE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A2E8-4FED-4ADF-899A-9FA0E046E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3373-578A-4EB7-8C3E-3F1B4188F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0763-E3C0-4D8D-8A88-EA59C5264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DFD8-FA32-4D62-90B1-52537AC68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8B34-F2DE-4647-9DC5-81F021848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E4B3-76DF-4247-83E5-61ADC3C5F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9E0-29F9-4A41-BA64-C000D0BFE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E2B0-098C-484E-AC81-0D0A060F4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A7A-58AD-4FEB-B667-D1F686BA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ACF-2137-4E0C-8F1F-BCE5EBAC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43E-812A-4B0B-B5A3-4E5BF15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446-6C84-43C0-8BC4-37A556C6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827A-8C7D-4C24-9D8D-EABDD5C7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5346-3550-4FF7-B8F7-4BD4B5FE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E806-CC3F-4B73-89A8-2AD0610D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7EB-987D-4B03-A441-898F6D6D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83F4-A23C-4D96-B38F-1CA56B3D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21E3-11E0-4998-BFE7-D1DA311E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E9D4-DDFB-4592-90FE-CDE296D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73E-9EEF-4924-A874-DA836FB4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C995-F8B1-4D8F-B786-9CFA86A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7034-D0EF-4B42-9B72-CEC0F584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1C0A-D82C-400E-8A32-3147DE3F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59F0-491C-4E5A-BDA0-1AEF8659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367-AAEB-4057-8E41-7844BD7D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E8D-6E8C-4DFD-886D-3D003439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4A3-C3EE-4CAB-85A5-E4B3259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4FD-B7A6-4473-BC2F-D157544E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6E5-0489-4D15-AF68-268A9994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08F-6674-4C71-899F-75B791C4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846-806F-48ED-93A3-2305C24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D0D-4146-495E-B9B7-04E583E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77C0-733E-4E62-B6C8-A326EB127B9C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0308-436F-45B8-8A20-F8CB38BAC4A6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dhotscott.co.uk/revision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How did women gain the right to vot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440" y="3200040"/>
            <a:ext cx="5502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im: 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 revise key details 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bout the battle for 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men’s suffra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49120" y="6095880"/>
            <a:ext cx="68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vision presentation from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edhotscott.co.uk/revis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038480" y="289548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The Suffragett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Picture 8" descr="MCj04040550000[1]"/>
          <p:cNvPicPr/>
          <p:nvPr/>
        </p:nvPicPr>
        <p:blipFill>
          <a:blip r:embed="rId2"/>
          <a:stretch/>
        </p:blipFill>
        <p:spPr>
          <a:xfrm>
            <a:off x="1905120" y="1447920"/>
            <a:ext cx="6095880" cy="474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ary_poppins"/>
          <p:cNvPicPr/>
          <p:nvPr/>
        </p:nvPicPr>
        <p:blipFill>
          <a:blip r:embed="rId3"/>
          <a:stretch/>
        </p:blipFill>
        <p:spPr>
          <a:xfrm>
            <a:off x="2895480" y="1981080"/>
            <a:ext cx="4143600" cy="3295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3124080" y="4191120"/>
            <a:ext cx="3581640" cy="91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lick here to watch the cl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may take a couple of minutes to down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Reactions to the Suffragett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he next slide shows a cartoon drawn in reaction to the suffragett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does it show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does it suggest about the artist’s opinion of suffragette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o do you think drew it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Reactions to the Suffragett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5" descr="poiger8"/>
          <p:cNvPicPr/>
          <p:nvPr/>
        </p:nvPicPr>
        <p:blipFill>
          <a:blip r:embed="rId2"/>
          <a:srcRect l="0" t="0" r="1004" b="0"/>
          <a:stretch/>
        </p:blipFill>
        <p:spPr>
          <a:xfrm>
            <a:off x="106668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1911 Conciliation Bil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he government promised to “conciliate” (make peace) by introducing votes for wom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t got an enormous majority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ut was then dropped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uffragist respon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y to persuade the Prime Minister to change his min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he Labour Party at the new elec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Organise a march from Carlisle to Lond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Offer free membership to all wom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uffragette respon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scalated their campaign of violen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scalated their campaign of violen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scalated their campaign of violen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scalated their campaign of violen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2"/>
          <p:cNvSpPr/>
          <p:nvPr/>
        </p:nvSpPr>
        <p:spPr>
          <a:xfrm>
            <a:off x="3124080" y="22860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uffragette respon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5" descr="women21"/>
          <p:cNvPicPr/>
          <p:nvPr/>
        </p:nvPicPr>
        <p:blipFill>
          <a:blip r:embed="rId2"/>
          <a:stretch/>
        </p:blipFill>
        <p:spPr>
          <a:xfrm>
            <a:off x="1066680" y="137160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rison_1"/>
          <p:cNvPicPr/>
          <p:nvPr/>
        </p:nvPicPr>
        <p:blipFill>
          <a:blip r:embed="rId3"/>
          <a:stretch/>
        </p:blipFill>
        <p:spPr>
          <a:xfrm>
            <a:off x="3352680" y="2895480"/>
            <a:ext cx="2743200" cy="180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nofood-1"/>
          <p:cNvPicPr/>
          <p:nvPr/>
        </p:nvPicPr>
        <p:blipFill>
          <a:blip r:embed="rId4"/>
          <a:stretch/>
        </p:blipFill>
        <p:spPr>
          <a:xfrm>
            <a:off x="6654960" y="3352680"/>
            <a:ext cx="1946160" cy="2914920"/>
          </a:xfrm>
          <a:prstGeom prst="rect">
            <a:avLst/>
          </a:prstGeom>
          <a:ln w="0">
            <a:noFill/>
          </a:ln>
        </p:spPr>
      </p:pic>
      <p:sp>
        <p:nvSpPr>
          <p:cNvPr id="142" name="Line 10"/>
          <p:cNvSpPr/>
          <p:nvPr/>
        </p:nvSpPr>
        <p:spPr>
          <a:xfrm>
            <a:off x="2057400" y="34290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5334120" y="487692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Picture 4" descr="Whunger"/>
          <p:cNvPicPr/>
          <p:nvPr/>
        </p:nvPicPr>
        <p:blipFill>
          <a:blip r:embed="rId2"/>
          <a:stretch/>
        </p:blipFill>
        <p:spPr>
          <a:xfrm>
            <a:off x="0" y="158760"/>
            <a:ext cx="9144000" cy="6369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0" y="5851440"/>
            <a:ext cx="7559640" cy="10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awing of a force-feeding published in the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Suffragett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agazine, 19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3673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The Temporary Discharge of Prisoner’s Act (1913)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This meant that prisoners who were weak from hunger striking could be released from prison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When they were stronger, they were re-arrested and brought back to prison to finish their sentence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9" name="Picture 4" descr="cat"/>
          <p:cNvPicPr/>
          <p:nvPr/>
        </p:nvPicPr>
        <p:blipFill>
          <a:blip r:embed="rId2"/>
          <a:stretch/>
        </p:blipFill>
        <p:spPr>
          <a:xfrm>
            <a:off x="4892760" y="609480"/>
            <a:ext cx="3716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Emily Davis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anted to publicise 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ied to pin a flag on the King’s horse at the Derby at Epsom racecour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he was killed in the colli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Votes for women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57600" y="2971800"/>
            <a:ext cx="49528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79440" y="1600200"/>
          <a:ext cx="7102440" cy="4648320"/>
        </p:xfrm>
        <a:graphic>
          <a:graphicData uri="http://schemas.openxmlformats.org/drawingml/2006/table">
            <a:tbl>
              <a:tblPr/>
              <a:tblGrid>
                <a:gridCol w="3551400"/>
                <a:gridCol w="3551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guments 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guments Aga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Emily Davis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n extreme protest to martyr herself for the suffragette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 publicity stunt that went terribly wrong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7407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How effective were the suffragett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550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y had raised the public profile of the issue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government only started taking the issue seriously after militancy started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Increasing violence reduced suppor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Supported the view that women were irrational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If the government gave in to violence here, what other violence might happen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Would Ireland mount violent protests for Home Rule?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7407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How effective were the suffragett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Vote on a scale of 1-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en war broke out, both suffragettes and suffragists suspended their campaigns for the vo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hey began actively trying to recruit men for the arm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ite feather, etc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 more and more men went to war, industry began to suffer a shortage of work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n which order did women enter “men’s” job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unitions factor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omen’s Army Auxiliary Corp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omen’s Land Arm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ffice job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n which order did women enter “men’s” job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.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ffice job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unitions factor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.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omen’s Land Arm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. Women’s Army Auxiliary Corp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men began working in off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ndustry was reluctant at first to take on wom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id they have the skill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Unions feared that women would be cheaper, and so men would be too expensive when they return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y 1916, the number of industrial workers was despera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ore and more munitions and supplies needed at the fro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ess and less men working in factories, because they’d all joined the arm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men began working in munitions factori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y the end of the war almost 800,000 women were working in the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y proved they were just as skilled and capable as m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 the war went on, more women started to work in “men’s” job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us conductors, postal workers, et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men’s Land Arm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 kind of social revolution was taking pla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Over the next few pages are statements about the two different women’s campaign group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e if you can remember whether the statement describes the suffragettes or the suffragis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(Some) women get the vote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n 1918 the Representation of the People Act was pas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Older and/or richer women were given the vo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Younger, working-class women may still have been too “radical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ll women got the vote in 192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2209680" y="1600200"/>
            <a:ext cx="3353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3200400"/>
            <a:ext cx="5334120" cy="204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lso called the NUW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(National Union of Women’s Suffrage Socie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2209680" y="2133720"/>
            <a:ext cx="33530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95280" y="3200400"/>
            <a:ext cx="53341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lso called the WS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(Women’s Social and Political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209680" y="2133720"/>
            <a:ext cx="33530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95280" y="3200400"/>
            <a:ext cx="53341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L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rs Emmeline Pan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2209680" y="1600200"/>
            <a:ext cx="3353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95280" y="3200400"/>
            <a:ext cx="53341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L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rs Millicent Fawc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2209680" y="1600200"/>
            <a:ext cx="3353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95280" y="3200400"/>
            <a:ext cx="53341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Used peaceful campaig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209680" y="2133720"/>
            <a:ext cx="33530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3200400"/>
            <a:ext cx="53341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Used radical and milita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0:07:03Z</dcterms:created>
  <dc:creator>s allsop</dc:creator>
  <dc:description/>
  <cp:keywords/>
  <dc:language>en-US</dc:language>
  <cp:lastModifiedBy>Sue Gregory</cp:lastModifiedBy>
  <dcterms:modified xsi:type="dcterms:W3CDTF">2008-03-22T06:35:23Z</dcterms:modified>
  <cp:revision>183</cp:revision>
  <dc:subject/>
  <dc:title>The Nazis Party in the 1920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